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wmf" ContentType="image/x-wmf"/>
  <Override PartName="/ppt/media/image3.png" ContentType="image/png"/>
  <Override PartName="/ppt/media/image8.wmf" ContentType="image/x-wmf"/>
  <Override PartName="/ppt/media/image7.gif" ContentType="image/gif"/>
  <Override PartName="/ppt/media/image18.wmf" ContentType="image/x-wmf"/>
  <Override PartName="/ppt/media/image20.wmf" ContentType="image/x-wmf"/>
  <Override PartName="/ppt/media/image9.wmf" ContentType="image/x-wmf"/>
  <Override PartName="/ppt/media/image6.gif" ContentType="image/gif"/>
  <Override PartName="/ppt/media/image10.wmf" ContentType="image/x-wmf"/>
  <Override PartName="/ppt/media/image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.jpeg" ContentType="image/jpeg"/>
  <Override PartName="/ppt/media/image21.wmf" ContentType="image/x-wmf"/>
  <Override PartName="/ppt/media/image19.wmf" ContentType="image/x-wmf"/>
  <Override PartName="/ppt/media/image16.png" ContentType="image/png"/>
  <Override PartName="/ppt/media/image15.gif" ContentType="image/gif"/>
  <Override PartName="/ppt/media/image17.png" ContentType="image/png"/>
  <Override PartName="/ppt/media/image14.gif" ContentType="image/gif"/>
  <Override PartName="/ppt/media/image2.jpeg" ContentType="image/jpe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87b7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92D9-25BD-4F04-B5ED-017781BF5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AF44-E262-4046-8306-A79E2F2D1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9CE4-68EA-4DE1-9D43-1166047F1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02E7-799E-400C-8B90-EAEB4DECC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3F6C-9FD1-47CB-84E9-2CF802CE4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49CC-4E62-4568-A686-6F9D91AB0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D25B-BEB3-4295-9F63-59D5B15BF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B9A5-4E7A-45B7-84E6-EA51AF75F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D4A7-F0BA-47AF-86C7-12F35FAA6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B26E-C145-408B-9788-D6F44B12E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494D-CAA2-478D-95B8-F64A4DB09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4B31-17F5-4569-A856-1AC2EC6DC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EA94-04AF-4501-A2E9-4C7B86DB5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FD61-30E6-4168-B204-2839645F8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7696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827160"/>
            <a:ext cx="7696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37C7-311A-4C8A-B5F0-F3C801CF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4380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82716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43800" y="382716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BF03-DA79-4BDB-8829-F5ECDF531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02080" y="76212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04160" y="76212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82716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02080" y="382716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04160" y="382716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9733-3D46-414A-9984-7C8E72E12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F430-8593-46EC-BBB4-28A34C98E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225E9-30A3-489A-9ABB-32779D56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A49B-95E3-4578-8DBB-18AFB72C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3755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43800" y="762120"/>
            <a:ext cx="3755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BCD0-ADD4-4C95-A546-4AFB5C96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DE37-5628-4DDD-8CAC-B8DDB057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7B3FE-8443-4056-A8EB-395C67B8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43800" y="762120"/>
            <a:ext cx="3755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82716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95B84-B2C3-4EDC-AD1F-287BD15F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FB4F-79B2-4F12-8CDE-161DA304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3755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4380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43800" y="382716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73D6-F5EA-485D-9EF8-FCB04A5F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4380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827160"/>
            <a:ext cx="7696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18797-1521-4F2F-BC17-48BE594E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7696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827160"/>
            <a:ext cx="7696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AF3F-3B6F-4D72-932C-C4DC54F3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4380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82716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43800" y="382716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29E3-A564-4420-A6DF-300C5C977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602080" y="76212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04160" y="76212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82716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602080" y="382716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04160" y="382716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2759F-2B16-43AE-BF0E-3BB09DBF5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30E4-A1E7-4F03-B851-D9C25EDD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3755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43800" y="762120"/>
            <a:ext cx="3755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E72C-7D2F-4E70-B47B-85F0DB5E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2617-76B7-4D11-8D5F-DF021B7D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0FD1-BAEA-4DBE-B8BA-FF46E65B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43800" y="762120"/>
            <a:ext cx="3755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82716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D9FC-6C03-4360-BC10-410A7B26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3755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4380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43800" y="382716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F572-2A85-44EB-B257-2D9A023A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4380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827160"/>
            <a:ext cx="7696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0A6B-92C0-4D36-9EDE-59086906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87b7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36C2-F407-4FB8-A506-C56D18A2AC87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87b7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A9E5-8EC7-48B7-812E-687F5BBA633B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image" Target="../media/image24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129528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b87b7"/>
                </a:solidFill>
                <a:latin typeface="Impact"/>
              </a:rPr>
              <a:t>What is electricity?</a:t>
            </a:r>
            <a:endParaRPr b="0" lang="en-US" sz="4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120" y="26665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D431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ience Content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. Le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87b7"/>
                </a:solidFill>
                <a:latin typeface="Impact"/>
              </a:rPr>
              <a:t>Conductor &amp; Insulator</a:t>
            </a: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37767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conductor is an object that allows electrical charges to flow easily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y stated, most metals are good electrical conductor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919680" y="762120"/>
            <a:ext cx="3776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nonconductor is an object that doesn’t allow electrical charges to flow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: glasses, fabric, wood, rubber, plastic, pure water, etc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conductor_1bs"/>
          <p:cNvPicPr/>
          <p:nvPr/>
        </p:nvPicPr>
        <p:blipFill>
          <a:blip r:embed="rId1"/>
          <a:stretch/>
        </p:blipFill>
        <p:spPr>
          <a:xfrm>
            <a:off x="228600" y="4419720"/>
            <a:ext cx="3200400" cy="1900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MCPE03308_0000[1]"/>
          <p:cNvPicPr/>
          <p:nvPr/>
        </p:nvPicPr>
        <p:blipFill>
          <a:blip r:embed="rId2"/>
          <a:stretch/>
        </p:blipFill>
        <p:spPr>
          <a:xfrm>
            <a:off x="3809880" y="4952880"/>
            <a:ext cx="1600200" cy="1314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MCj04240680000[1]"/>
          <p:cNvPicPr/>
          <p:nvPr/>
        </p:nvPicPr>
        <p:blipFill>
          <a:blip r:embed="rId3"/>
          <a:stretch/>
        </p:blipFill>
        <p:spPr>
          <a:xfrm>
            <a:off x="6477120" y="4343400"/>
            <a:ext cx="1331640" cy="1359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MCj02809750000[1]"/>
          <p:cNvPicPr/>
          <p:nvPr/>
        </p:nvPicPr>
        <p:blipFill>
          <a:blip r:embed="rId4"/>
          <a:stretch/>
        </p:blipFill>
        <p:spPr>
          <a:xfrm>
            <a:off x="7010280" y="5470560"/>
            <a:ext cx="1587600" cy="1387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MCSY00550_0000[1]"/>
          <p:cNvPicPr/>
          <p:nvPr/>
        </p:nvPicPr>
        <p:blipFill>
          <a:blip r:embed="rId5"/>
          <a:stretch/>
        </p:blipFill>
        <p:spPr>
          <a:xfrm>
            <a:off x="5486400" y="4876920"/>
            <a:ext cx="102384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87b7"/>
                </a:solidFill>
                <a:latin typeface="Impact"/>
              </a:rPr>
              <a:t>Batteries produce electricity.</a:t>
            </a: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ce electricity using two different metals in a chemical solu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battery"/>
          <p:cNvPicPr/>
          <p:nvPr/>
        </p:nvPicPr>
        <p:blipFill>
          <a:blip r:embed="rId1"/>
          <a:stretch/>
        </p:blipFill>
        <p:spPr>
          <a:xfrm>
            <a:off x="1066680" y="2438280"/>
            <a:ext cx="5791320" cy="38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87b7"/>
                </a:solidFill>
                <a:latin typeface="Impact"/>
              </a:rPr>
              <a:t>Electricity travels in a circuit.</a:t>
            </a: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ectricity travels in closed loops, or circuits (from the word circle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a circuit is open, the electricity can’t flow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ectricity does work! (lighting, making pictures and sound, moving, etc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LightBulbs_small"/>
          <p:cNvPicPr/>
          <p:nvPr/>
        </p:nvPicPr>
        <p:blipFill>
          <a:blip r:embed="rId1"/>
          <a:stretch/>
        </p:blipFill>
        <p:spPr>
          <a:xfrm>
            <a:off x="1523880" y="4114800"/>
            <a:ext cx="49532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87b7"/>
                </a:solidFill>
                <a:latin typeface="Impact"/>
              </a:rPr>
              <a:t>Types of Circuits</a:t>
            </a: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37767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es circui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ve all their components wired so that current follows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ingle pa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rough the circuit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919680" y="762120"/>
            <a:ext cx="3776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circui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closed circuit, in which the current divides into two or more paths before recombining to complete the circuit. They are wired in such a way so that if one part of the circuit is broken, the whole circuit is still closed!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series circuit"/>
          <p:cNvPicPr/>
          <p:nvPr/>
        </p:nvPicPr>
        <p:blipFill>
          <a:blip r:embed="rId1"/>
          <a:stretch/>
        </p:blipFill>
        <p:spPr>
          <a:xfrm>
            <a:off x="457200" y="2819520"/>
            <a:ext cx="2819520" cy="1981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parallel circuit"/>
          <p:cNvPicPr/>
          <p:nvPr/>
        </p:nvPicPr>
        <p:blipFill>
          <a:blip r:embed="rId2"/>
          <a:stretch/>
        </p:blipFill>
        <p:spPr>
          <a:xfrm>
            <a:off x="3581280" y="4952880"/>
            <a:ext cx="2057400" cy="1600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series c"/>
          <p:cNvPicPr/>
          <p:nvPr/>
        </p:nvPicPr>
        <p:blipFill>
          <a:blip r:embed="rId3"/>
          <a:stretch/>
        </p:blipFill>
        <p:spPr>
          <a:xfrm>
            <a:off x="762120" y="5181480"/>
            <a:ext cx="2209680" cy="1343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parallel"/>
          <p:cNvPicPr/>
          <p:nvPr/>
        </p:nvPicPr>
        <p:blipFill>
          <a:blip r:embed="rId4"/>
          <a:stretch/>
        </p:blipFill>
        <p:spPr>
          <a:xfrm>
            <a:off x="5791320" y="5029200"/>
            <a:ext cx="198108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87b7"/>
                </a:solidFill>
                <a:latin typeface="Impact"/>
              </a:rPr>
              <a:t>We use electricity every day!</a:t>
            </a: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37767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ctricity does a lot of work for u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lights our homes, warms and cools and helps us clean something…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9" descr="MCj02790300000[1]"/>
          <p:cNvPicPr/>
          <p:nvPr/>
        </p:nvPicPr>
        <p:blipFill>
          <a:blip r:embed="rId1"/>
          <a:stretch/>
        </p:blipFill>
        <p:spPr>
          <a:xfrm>
            <a:off x="2133720" y="3733920"/>
            <a:ext cx="1709640" cy="2189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MCj00854300000[1]"/>
          <p:cNvPicPr/>
          <p:nvPr/>
        </p:nvPicPr>
        <p:blipFill>
          <a:blip r:embed="rId2"/>
          <a:stretch/>
        </p:blipFill>
        <p:spPr>
          <a:xfrm>
            <a:off x="990720" y="3886200"/>
            <a:ext cx="1092240" cy="2209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MCj03887520000[1]"/>
          <p:cNvPicPr/>
          <p:nvPr/>
        </p:nvPicPr>
        <p:blipFill>
          <a:blip r:embed="rId3"/>
          <a:stretch/>
        </p:blipFill>
        <p:spPr>
          <a:xfrm>
            <a:off x="5715000" y="5257800"/>
            <a:ext cx="1709640" cy="1079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MCj02803610000[1]"/>
          <p:cNvPicPr/>
          <p:nvPr/>
        </p:nvPicPr>
        <p:blipFill>
          <a:blip r:embed="rId4"/>
          <a:stretch/>
        </p:blipFill>
        <p:spPr>
          <a:xfrm>
            <a:off x="3733920" y="1905120"/>
            <a:ext cx="1798560" cy="1638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5" descr="MCj03969140000[1]"/>
          <p:cNvPicPr/>
          <p:nvPr/>
        </p:nvPicPr>
        <p:blipFill>
          <a:blip r:embed="rId5"/>
          <a:stretch/>
        </p:blipFill>
        <p:spPr>
          <a:xfrm>
            <a:off x="5791320" y="1447920"/>
            <a:ext cx="1322280" cy="1805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7" descr="MCj04041210000[1]"/>
          <p:cNvPicPr/>
          <p:nvPr/>
        </p:nvPicPr>
        <p:blipFill>
          <a:blip r:embed="rId6"/>
          <a:stretch/>
        </p:blipFill>
        <p:spPr>
          <a:xfrm>
            <a:off x="4114800" y="39625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8" descr="MCj02342890000[1]"/>
          <p:cNvPicPr/>
          <p:nvPr/>
        </p:nvPicPr>
        <p:blipFill>
          <a:blip r:embed="rId7"/>
          <a:stretch/>
        </p:blipFill>
        <p:spPr>
          <a:xfrm>
            <a:off x="5181480" y="3200400"/>
            <a:ext cx="25005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87b7"/>
                </a:solidFill>
                <a:latin typeface="Impact"/>
              </a:rPr>
              <a:t>TEKS Alignment</a:t>
            </a: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ience Process Skills: All of grades in elementary scie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From K to Grade 2 basic process skills are focused in TE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From Grade 3 to Grade 5 integrated process skills are emphasized in TEKS as well as basic ski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ience concepts about Electric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Grade4, (5) and Grade5, (7) &amp; (8) in TE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87b7"/>
                </a:solidFill>
                <a:latin typeface="Impact"/>
              </a:rPr>
              <a:t>What is electricity?</a:t>
            </a: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flow of electrical power or char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ysterious for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ary energy sour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rollable and convenient form of energy used in the applications of heat, light, and pow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87b7"/>
                </a:solidFill>
                <a:latin typeface="Impact"/>
              </a:rPr>
              <a:t>Scientists who worked for electricity</a:t>
            </a: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jamin Franklin (1706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Conducting experiments to generate electric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Lighting is electric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mas Edison (1847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enting the light bulb and many other electric machin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kola Tesla (1856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uction motors, radio-frequency wave, transmission of electrical power, and AC Electric pow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eia.doe.gov/kids/history/people/pioneers.htm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87b7"/>
                </a:solidFill>
                <a:latin typeface="Impact"/>
              </a:rPr>
              <a:t>What are atoms?</a:t>
            </a: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rything is made of atoms (every star, plants, animals, etc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building blocks of the univer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y, very tiny partic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oms are made of even smaller particles such as nucleus (neutron &amp; proton) and electro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stly empty spa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87b7"/>
                </a:solidFill>
                <a:latin typeface="Impact"/>
              </a:rPr>
              <a:t>Atoms</a:t>
            </a: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pic>
        <p:nvPicPr>
          <p:cNvPr id="100" name="Picture 6" descr="carbon%20atom"/>
          <p:cNvPicPr/>
          <p:nvPr/>
        </p:nvPicPr>
        <p:blipFill>
          <a:blip r:embed="rId1"/>
          <a:stretch/>
        </p:blipFill>
        <p:spPr>
          <a:xfrm>
            <a:off x="0" y="762120"/>
            <a:ext cx="3048120" cy="27223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8769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 like the sun with the planets spinning around it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enter is called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cleu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hat is made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positive charge)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tr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negative charge) move around the nucleus in cloud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atom"/>
          <p:cNvPicPr/>
          <p:nvPr/>
        </p:nvPicPr>
        <p:blipFill>
          <a:blip r:embed="rId2"/>
          <a:stretch/>
        </p:blipFill>
        <p:spPr>
          <a:xfrm>
            <a:off x="1523880" y="358128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87b7"/>
                </a:solidFill>
                <a:latin typeface="Impact"/>
              </a:rPr>
              <a:t>Electricity is moving electrons!</a:t>
            </a: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o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Nucleus :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tons (+ Charg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trons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Electrons (- Charg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Protons (+charge) + N Electrons (- charg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10                +         -10       =    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s can move out or in easily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10                +         -8          =   +2 (positiv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10                +         -12        =   - 2 (negativ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87b7"/>
                </a:solidFill>
                <a:latin typeface="Impact"/>
              </a:rPr>
              <a:t>Static Electricity</a:t>
            </a: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ghting is electricity; It is electrons moving from one cloud to another or jumping to the grou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bunch of electrons jumped to you from another object. This kind of electricity is called static electricity (no wir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MCj03980170000[1]"/>
          <p:cNvPicPr/>
          <p:nvPr/>
        </p:nvPicPr>
        <p:blipFill>
          <a:blip r:embed="rId1"/>
          <a:stretch/>
        </p:blipFill>
        <p:spPr>
          <a:xfrm>
            <a:off x="5181480" y="1981080"/>
            <a:ext cx="141948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87b7"/>
                </a:solidFill>
                <a:latin typeface="Impact"/>
              </a:rPr>
              <a:t>Electricity travels through wires.</a:t>
            </a: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ectricity moves through the wires very fast! In just one second, electricity can travel around the world seven times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duracell"/>
          <p:cNvPicPr/>
          <p:nvPr/>
        </p:nvPicPr>
        <p:blipFill>
          <a:blip r:embed="rId1"/>
          <a:stretch/>
        </p:blipFill>
        <p:spPr>
          <a:xfrm>
            <a:off x="2590920" y="3200400"/>
            <a:ext cx="449568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01:36:45Z</dcterms:created>
  <dc:creator>Young H. Lee</dc:creator>
  <dc:description/>
  <dc:language>en-US</dc:language>
  <cp:lastModifiedBy>Your User Name</cp:lastModifiedBy>
  <dcterms:modified xsi:type="dcterms:W3CDTF">2009-09-21T21:38:37Z</dcterms:modified>
  <cp:revision>14</cp:revision>
  <dc:subject/>
  <dc:title>What is electricity?</dc:title>
</cp:coreProperties>
</file>